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F82-2BE0-41C1-9CC1-79D32D48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B94-7371-4CA3-B187-A2BC652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14F-8DC9-4FAE-A3CE-756F880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A5C-55AC-4DAF-AF25-B349B3E1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D93-78A0-49DD-B3ED-E00818AF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5C35-9569-47E0-B52C-D91A0A6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8A94-9504-4760-9EB2-E2C9B7F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B2D9-2954-4C7D-AD80-DBC48BC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6561-9251-43FE-9A61-36418D87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333F-2F16-42D2-AC98-C5F0FF6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A13-E663-4369-BF6E-951E611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EE4-5096-499C-88D9-36501EB0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48F-B38D-4000-B679-C95D750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102-8BD9-422A-9BB9-E8107CC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D573-FB46-4FEF-9EA7-E2AFC24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28B-5576-497D-833A-2287CBEF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534-5103-4BBD-B3A6-FA7CE9BA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6CE-B557-41B6-A327-B354F45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5E3-FD1B-4E7C-804F-0CB4EC1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ABD-03FB-4AB4-AF54-1EECDF0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51A-DCAA-4CA1-9725-324D1558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B85-9DAF-41D1-9580-2879F87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2AE-5F0E-416D-91EB-AD140AD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2BD-63F6-4643-89C5-CC8EDFD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3E92-0038-4851-9577-11F8058C9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BA4-C905-4CA7-B859-670FB1E4D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o Lu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our sports commer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mluna64@g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A611-D431-453B-95AA-1C4C8CC8EB5B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is to encourage the public to join (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) a parkour team/club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 a student hasn’t practiced parkour and will be kicked of the team 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doesn’t in the next 2-3 minu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I the student practices around the sch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II The student gets to his team with in the time limit and does not g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cked off the te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if people give me money and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had something to do with the movie and YouTu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different because it will be a commercial for parko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0:02Z</dcterms:created>
  <dc:creator/>
  <dc:description/>
  <dc:language>en-US</dc:language>
  <cp:lastModifiedBy>City School</cp:lastModifiedBy>
  <dcterms:modified xsi:type="dcterms:W3CDTF">2013-02-19T21:30:10Z</dcterms:modified>
  <cp:revision>38</cp:revision>
  <dc:subject/>
  <dc:title>The Pitch-Then-Plan Business Planning Template</dc:title>
</cp:coreProperties>
</file>